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EFDD-8637-4177-8B62-3B002FB874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用实例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名为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ROAD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表中的一条名为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Tanyuanroad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公路创建一个半径为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米的区域缓冲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lect  mdsys.sdo_geom.sdo_buffer (GEOLOC,  (select diminfo from user_sdo_geom_metadata  where tablename = 'ROAD' and columnname = 'GEOLOC'), 35)  from RO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here ROADNAME = 'Tanyuanroad'), 'querytype=WINDOW') = 'TRU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供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DO_GEOMARE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函数可以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环境下，为上载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中的区域型对象的表自动计算出每个区域对象的面积值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新增一个面积字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alter table counties add AREA number(9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给面积字段自动赋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update counties set AREA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dsys.sdo_geom.sdo_area (geom, (select diminfo from sdo_geom_metadata where table_name = 'counties' and column_name = 'GEOM'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当用户想将基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链接表所作的修改保存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服务器时，只要执行一条简单的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Commit Table tablenam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语句即可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basi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执行此语句时，对于链接表会自动将用户所作的修改保存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rver Refresh tablenam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可以将所有用户基于同一张表所作的任何修改，刷新到客户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由于用户在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表上载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Spatia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空间数据库中时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每张表中的每一种空间对象只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_MAPCATALO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视图中保存一种对象样式，所以当用户再通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 Professiona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上载表下载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时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只能将该表中的每一种对象（点、线、面）恢复成其第一个对象的样式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04560" y="43434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何将表中的点、线、面的样式提取到表中当作属性值保存（以线样式为例）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通过程序实现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update tab_to_upload set penstyle = objectinfo(obj,OBJ_INFO_PEN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linewidth=StyleAttr(Objectinfo(obj,OBJ_INFO_PEN),PEN_WIDT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linepattern=StyleAttr(Objectinfo(obj,OBJ_INFO_PEN),PEN_PATTERN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linecolor=StyleAttr(Objectinfo(obj,OBJ_INFO_PEN),PEN_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让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asyload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自动执行样式提取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asyload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程序支持带参数运行，用户可以通过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Command Lin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方式带参数运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asyloader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点、线、面的样式自动提取到一个名为 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I_RENDITION”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字段中， 并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一起上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C:\&gt;Easyloader\Easyloader /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何在程序中根据表中的样式信息将点、线、面的样式再恢复出来（以线样式为例）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rows=tableinfo(downloadtab,TAB_INFO_NR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etch first from downloadt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or i=1 to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tempalias = downloadtab.obj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   linewidth=downloadtab.linewidth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linepattern=downloadtab.line    patternlinecolor=downloadtab.line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linestyle = makepen(linewidth,linepattern,linecol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alter object tempalias info OBJ_INFO_PEN, lin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update downloadtab set obj=tempalias where rowid =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etch next from downloadt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由于现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还无法接受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文本对象，所以用户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文本对象图层上载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中后，再下载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环境中时，所有的文本对象都会丢失。但是其所有的属性信息都还仍然存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何将文本对象的内容及信息在上载表之前保存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中的方法与处理点、线、面的方式相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何将文本对象再恢复出来（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basi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程序为例）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方法一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or i=1 to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ontname=downloadtab.textfontname   textcontent=downloadtab.text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orecolor=downloadtab.textforecolor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   backcolor=downloadtab.textback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style=downloadtab.textstyle  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   size=downloadtab.text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x1=downloadtab.lbx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   y1=downloadtab.l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x2=downloadtab.rux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   y2=downloadtab.ru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create text into Variable textobj textcontent (x1,y1)(x2,y2) Font MakeFont(fontname, style, size,forecolor,back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update downloadtab set obj=textobj where rowid =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etch next from downloadt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6019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何将文本对象的内容及信息在上载表之前保存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中的方法与处理点、线、面的方式相同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何将文本对象再恢复出来（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basi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程序为例）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方法二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rows=tableinfo(linktablename,TAB_INFO_NR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etch first from linktabl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or i=1 to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tempalias=linktablename &amp; ".x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x=tempal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tempalias=linktablename &amp; ".y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y=tempal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tempalias=linktablename &amp; ".angl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angle=tempal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tempalias=linktablename &amp; ".textstring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textstring=tempal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update linktablename set obj=CreateText(Frontwindow(),x, y,textstring,angle,0,0) where rowid =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fetch next from linktabl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从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rofessional5.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，才支持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i Spatia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存取空间数据。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rofessional5.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前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只支持通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中存取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 Tabl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的属性数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也只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.1.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，才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供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底层接口，并通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接口来实现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之间的空间数据存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用户在安装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支持时，选择了安装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lce8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支持，但是如果用户的计算机上还没有安装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客户端程序，则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每次启动的时候，都会报出一个错误，显示找不到：“……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.OCI.DLL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用户在安装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客户端程序后，此错误提示会自动消失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户需要通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asyload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来实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地图数据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中的第一次上载。（以后对表的修改，只需要通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供的刷新表功能，即可将对地图数据的新编辑保存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l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中。）用户可以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mapinfo.com.c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网站免费下载此程序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8.1.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8.1.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相比，进行了某些重大内内部修改，但在存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空间数据的功能方面，没有什么变化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8.1.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上载后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创建一个名为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RINX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唯一性索引字段（如果用户指定让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之创建的话）。而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8.1.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该唯一性索引字段名则为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I_PRINX”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.1.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每个上载进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服务器中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创建一个名为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DO_GEOM_METADATA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视图。但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.1.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，则利用一个名为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USER_SDO_GEOM_METADATA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视图存储所以上载进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的信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所以，如果用户选择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asyloader for Oracle8.1.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.1.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数据库中上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，则此上载程序可能会出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4343040"/>
            <a:ext cx="6019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公司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供了一种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更底层的数据库接口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通过此接口可以直接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中存取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空间地图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程序中连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空间数据库时，不再需要使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连接所必须的数据源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S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Basi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程序通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1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Dim hdbc 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hdbc = Server_Connect("QELIB", 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"DSN=ora816;SRV=orageo.mapinfo.com.cn;USR=mapinfo;PWD=mapinfo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Server hdbc Link Table "select * from MAPINFO_MAPCATALOG" Into temptabname File "C:\temp\temptabname.TA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browse * from temptab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Basi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程序通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16 Spatia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dim serverid 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serverid = server_connect("orainet","uid=system;pwd=manager;srvr=orcl816.mapinfo.com.c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Server serverid Link Table "select * from CHINA" toolkit "orainet"  Into temptabname File "C:\temp\temptabname.TA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Map From temptab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户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 Professiona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环境下，通过手工操作连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i Spatial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时，可以进行基于属性或是基于空间关系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查询，并下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记录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下列语句输入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向导的专家对话框中，就可在下载的同时基于属性进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查询：（功能：下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TOTAL_POP_1982&gt;=10000000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所有省份。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lect * From "SYSTEM"."CHINA" WHERE TOTAL_POP_1982&gt;=1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也可以将上述的语句直接写入程序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用户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 Professiona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环境下，通过手工操作连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8i Spatial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时，可以进行基于属性或是基于空间关系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查询，并下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记录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下列语句输入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向导的专家对话框中，就可在下载的同时基于空间关系进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查询：（功能：下载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中，所有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中名为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illiamsburg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街道相交的区域对象。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lect "ZIP"."ZIPCODE","ZIP"."MI_PRINX","ZIP"."OBJECT" FROM "SYSTEM"."ZIP","SYSTEM"."STREET"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TREET.STREET = 'williamsburg' and mdsys.sdo_relate (STREET.GEOLOC,ZIP.GEOLOC,'mask=ANYINTERACT querytype=WINDOW')='TRU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也可以将上述的语句直接写入程序中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下面的例子实现：从一张大范围的地图中，选择下载一个矩形范围内的所有对象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lect *  from "SYSTEM"."BUILDING"  where mdsys.sdo_filter (BUILDING.GEOLOC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dsys.sdo_geometry (3, null, null,  mdsys.sdo_elem_info_array (1,3,3)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dsys.sdo_ordinate_array (34880,27710,35380,28410)), 'querytype=WINDOW') = 'TRU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MapBasi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程序中如何实现：自定义一个矩形选择工具，当任意拉出一个矩形框后，从整张地图中下载矩形范围内的所有图形对象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dim serverid as integer, qrystr as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dim mbr_miny,mbr_minx,mbr_maxx,mbr_maxy as fl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mbr_minx=commandinfo(CMD_INFO_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mbr_miny=commandinfo(CMD_INFO_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mbr_maxx=commandinfo(CMD_INFO_X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mbr_maxy=commandinfo(CMD_INFO_Y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qrystr= "select *  from BUILDING " &amp; "where mdsys.sdo_filter (BUILDING.GEOLOC, " &amp; "mdsys.sdo_geometry (3, null, null, " &amp; "mdsys.sdo_elem_info_array (1,3,3), " &amp; "mdsys.sdo_ordinate_array (" &amp; mbr_minx &amp; "," &amp; mbr_miny &amp; "," &amp; mbr_maxx &amp; "," &amp; mbr_maxy &amp; "))," &amp; "'querytype=WINDOW') = TRUE'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serverid = server_connect("orainet","uid=system;pwd=manager;srvr=orcl816.mapinfo.com.c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Server serverid Link Table qrystr toolkit "orainet"  Into downloadtabname 'File "c:\temp\downloadtabname.TAB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ixedSys"/>
              </a:rPr>
              <a:t>Map from downloadtab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DO_FILT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DO_RELATE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供的两个实现相交查询的函数。它们实现的功能基本相同，但是在使用过程中应当注意如下的问题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Oracle Spatial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采用双层查询模式（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rimary Filter, Secondary Filt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解决空间查询问题。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rimary Filt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查询产生的结果与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condary Filt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查询结果相比，精度较差；但是它的查询速度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econdary Filt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快。用户可以根据自己应用的实际需要来选择不同的函数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387-DECA-4F18-8594-CD8F4993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3F9-F1F6-4CDB-A11D-27FE398F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089-3BCB-440B-B5E5-70D31906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32A-8110-4BA3-8F5F-1DAAB7C2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398-28F4-4C7C-83D8-DFA9F035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7E5-6A8B-46CD-9FA9-C1D4EEB3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357-7C3E-4DD2-97A5-EDC1ABA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B6A-2236-488B-A0B2-F7F25C4D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024-5A08-4082-8329-36E0F9E5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647-196A-4EEA-B79C-84DDE59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686-9B7D-477C-A596-9D2A74C6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7A8-7A4F-442E-944A-6548F42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3DB2-A601-41B3-9822-33E0B00AA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8.1.6 Spatial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编程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邹德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常用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 Spatia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缓冲区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生成缓冲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GEOM.SDO_BUFFER (geometry, dim_array, distan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常用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 Spatia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积，长度计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计算二维区域对象的面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GEOM.AREA (geometry, dim_array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pdate counties set AREA 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dsys.sdo_geom.sdo_area (geom, (select diminfo from sdo_geom_metadata where table_name = 'counties' and column_name = 'GEOM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常用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 Spatia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积，长度计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计算空间对象的长度或是周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GEOM.LENGTH (geometry, dim_arra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如果指定的空间对象为线型，则此函数计算该对象的长度，对于指定的区域型对象，则计算此对象的周长（包括其中的洞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保存与刷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BM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保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System"/>
              </a:rPr>
              <a:t>commit table Table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刷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System"/>
              </a:rPr>
              <a:t>server refresh Table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问题如何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点、线、面样式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886200"/>
          <a:ext cx="320040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86200"/>
                    <a:ext cx="32004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181480" y="4191120"/>
          <a:ext cx="3048120" cy="18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191120"/>
                    <a:ext cx="304812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038480" y="480060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问题如何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点、线、面样式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决办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asyload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上载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之前，先在表中增加几个属性字段，将点线面的样式特性当作对象的属性值保存到表中，并连同表的其它属性一起上载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库中。当用户通过程序将该表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下载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后，再根据点、线、面的样式信息，利用程序将点、线、面的样式恢复出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981080" y="4267080"/>
          <a:ext cx="57150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267080"/>
                    <a:ext cx="571500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问题如何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法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上载文本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3733920"/>
          <a:ext cx="385776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733920"/>
                    <a:ext cx="385776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952880" y="3733920"/>
          <a:ext cx="383868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733920"/>
                    <a:ext cx="38386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问题如何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法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上载文本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决办法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asyload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上载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之前，先在表中增加几个属性字段，将文本对象的信息（如：文本对象的内容、文本样式等）当作对象的属性值保存到表中，并连同表的其它属性一起上载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库中。当用户通过程序将该表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下载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后，再根据保存在表中的文本对象的信息，利用程序为每个记录再重新创建一具文本对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问题如何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法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上载文本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决办法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asyload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上载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之前，先在表中增加几个属性字段，将文本对象的信息（如：文本对象的内容、文本样式等）当作对象的属性值保存到表中，并连同表的其它属性一起上载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库中。当用户通过程序将该表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Oracle Spatia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下载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pinf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后，再根据保存在表中的文本对象的信息，利用程序为每个记录再重新创建一具文本对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 Spatia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前提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至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rofessional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至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8.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Easyloader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载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使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Easyload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注意的一个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rofessional6.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用户，如果采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8.1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其空间数据库，建议使用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asyloader For Oralce8.1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库中上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apinf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在程序中连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8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8i Spa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ixedSy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ixedSys"/>
              </a:rPr>
              <a:t>hdbc = Server_Connect("</a:t>
            </a:r>
            <a:r>
              <a:rPr b="1" lang="zh-CN" sz="2400" spc="-1" strike="noStrike">
                <a:solidFill>
                  <a:srgbClr val="ff3300"/>
                </a:solidFill>
                <a:latin typeface="FixedSys"/>
              </a:rPr>
              <a:t>ORAINET</a:t>
            </a:r>
            <a:r>
              <a:rPr b="1" lang="zh-CN" sz="2400" spc="-1" strike="noStrike">
                <a:solidFill>
                  <a:srgbClr val="000000"/>
                </a:solidFill>
                <a:latin typeface="FixedSys"/>
              </a:rPr>
              <a:t>", "UID=scott;PWD=tiger;SRVR=Orasrv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ixedSy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ixedSys"/>
              </a:rPr>
              <a:t>hdbc = Server_Connect("</a:t>
            </a:r>
            <a:r>
              <a:rPr b="1" lang="zh-CN" sz="2400" spc="-1" strike="noStrike">
                <a:solidFill>
                  <a:srgbClr val="ff3300"/>
                </a:solidFill>
                <a:latin typeface="FixedSys"/>
              </a:rPr>
              <a:t>QELIB</a:t>
            </a:r>
            <a:r>
              <a:rPr b="1" lang="zh-CN" sz="2400" spc="-1" strike="noStrike">
                <a:solidFill>
                  <a:srgbClr val="000000"/>
                </a:solidFill>
                <a:latin typeface="FixedSys"/>
              </a:rPr>
              <a:t>", "</a:t>
            </a:r>
            <a:r>
              <a:rPr b="1" lang="zh-CN" sz="2400" spc="-1" strike="noStrike">
                <a:solidFill>
                  <a:srgbClr val="ff3300"/>
                </a:solidFill>
                <a:latin typeface="FixedSys"/>
              </a:rPr>
              <a:t>DSN=O8idsn;</a:t>
            </a:r>
            <a:r>
              <a:rPr b="1" lang="zh-CN" sz="2400" spc="-1" strike="noStrike">
                <a:solidFill>
                  <a:srgbClr val="000000"/>
                </a:solidFill>
                <a:latin typeface="FixedSys"/>
              </a:rPr>
              <a:t>SRV=Orasrv;USR=scott;PWD=tige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在下载数据时进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SQ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查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 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载数据的同时，基于属性数据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查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19320" y="2971800"/>
          <a:ext cx="693396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693396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在下载数据时进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SQ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查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 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载数据的同时，基于空间数据进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SQ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查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52480" y="2666880"/>
          <a:ext cx="632484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63248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常用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 Spatia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交查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FIL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确定与某一指定空间对象具有相交关系的对象（集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FILTER(geometry1, geometry2, pa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ELECT A.gid FROM Polygons A, query_polys 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WHERE B.gid = 1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DO_FILTER(A.Geometry, B.Geometry, 'querytype = WINDOW') = 'TRUE'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常用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 Spatia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交查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RE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确定与某一指定空间对象具有相交关系的对象（集合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RELATE(geometry1, geometry2, param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ELECT A.gid  FROM Polygons A, query_polys B  WHERE B.gid =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AND SDO_RELATE(A.Geometry, B.Geometr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'mask=ANYINTERACT querytype = WINDOW') = 'TRU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常用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Oracle Spatia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交查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DO_WITHIN_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查找距某个指定对象，一定距离范围内的所有其它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DO_WITHIN_DISTAN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T.column, aGeom, param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示例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ELECT A.G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ROM POLYGON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HERE SDO_WITHIN_DISTANCE(A.Geometry, mdsys.sdo_geometry(3,NULL,NULL,mdsys.sdo_elem_info(1,3,3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dsys.sdo_ordinates(x1,y1,x2,y2)),'distance = 10') = 'TRUE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00:52:40Z</dcterms:created>
  <dc:creator>george</dc:creator>
  <dc:description/>
  <dc:language>en-US</dc:language>
  <cp:lastModifiedBy>george</cp:lastModifiedBy>
  <cp:lastPrinted>2000-08-19T07:21:11Z</cp:lastPrinted>
  <dcterms:modified xsi:type="dcterms:W3CDTF">2000-08-19T07:31:51Z</dcterms:modified>
  <cp:revision>29</cp:revision>
  <dc:subject/>
  <dc:title>如何在Oracle8.1.6 Spatial 上编程</dc:title>
</cp:coreProperties>
</file>